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00F-17D3-494E-9E32-7ECE27CC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771-07CB-4232-B1F8-E4CFBEAC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389-27BD-443B-AC41-6A0F2F9B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31E-7C27-4619-8816-CD807258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8CB1-C66C-409E-ADB9-C1D87B15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C4F7-01E7-44FE-A774-051BD2EE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2050-F185-4F93-9B3C-9312A613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844-BE4E-4F5A-8482-9E39885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6947-06E7-4F52-B09A-25EAF0CF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E34-6F72-4FC2-887A-98F724D7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3F76-8DB2-42F7-9F41-09CF4D0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3AA-19C4-449F-96D9-8140127F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BD73-F63C-4F45-BDDF-23063CF7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D3D0-2AC8-4914-9270-27D260B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9A9-3C57-4C91-835E-01C166D1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FB39-B6C4-48A6-964F-A933A1DD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605B-4C88-4D9F-AAC6-B1C5E88F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0B1-C248-46BF-871C-177CA187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992-A504-488B-B664-EEA4528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C51-96B9-4744-8CA2-AD353C71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080-5108-41EA-A02C-1F0CC1C8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17D-6F50-4F3D-BA0E-454A609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E93-F4DF-4ED1-A06C-9A3E5C6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955-1F52-4DD7-9D7C-EE1B0974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09E0-6144-497F-9DC4-7C227C4C09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4C5-FE38-41A0-A942-FE9FB2AE8A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k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’s 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r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i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 from Roman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mureanu Mari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a a IV-a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d so on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un Geor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Macry Vict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Chiorpeacu  Teo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a a VIII-a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cu Alexandr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a a VIII-a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3:47:31Z</dcterms:created>
  <dc:creator>s</dc:creator>
  <dc:description/>
  <dc:language>en-US</dc:language>
  <cp:lastModifiedBy>s</cp:lastModifiedBy>
  <dcterms:modified xsi:type="dcterms:W3CDTF">2010-05-04T08:34:24Z</dcterms:modified>
  <cp:revision>3</cp:revision>
  <dc:subject/>
  <dc:title>Storys of storks from Romania</dc:title>
</cp:coreProperties>
</file>